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F78-0039-43ED-AA1D-8A5B194E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F366-5DA4-40B4-A483-054BF444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FE4D-35D3-4F44-953F-283E69C6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83B-141F-4D65-9820-9F821711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F39-3A0C-468E-A485-AA96D5A4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C55-311E-4DCA-84F0-715F1442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5A3-9D0E-4E06-9DAE-FCBC335D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A130-9219-4455-8DF1-B68C3797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F32C-8B1C-4AD5-ACAF-610D51BD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A98C-4607-40B8-8BE8-C271C65E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C1E0-CDA4-444B-97A6-FC9CB194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2A1-2D0A-4C90-95D1-FAFE2312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CE1C-832C-4DDC-ABC6-1C4959B5D6C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فصل الاو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ماهية التقارير الما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المستفيدون منه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أهداف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41600" y="1333440"/>
            <a:ext cx="7660800" cy="1031400"/>
          </a:xfrm>
          <a:prstGeom prst="rect">
            <a:avLst/>
          </a:prstGeom>
          <a:solidFill>
            <a:srgbClr val="ebd1a1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هدف من التقارير الم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9080" y="3130920"/>
            <a:ext cx="7580160" cy="2251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ظهار نتيجة نشاط المنشأة والمركز المالي والتغيرات في المركز المالي بكل عدالة ووضوح في ضوء المبادئ المحاسبية المقبو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إمداد المستفيدين بمعلومات موثوق بها عن نشاط المنشأة ومركزها المال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771480"/>
            <a:ext cx="7772760" cy="9082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خصائص النوعية ل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5040" y="2421000"/>
            <a:ext cx="3181320" cy="38685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ل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دم التح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ابلية للف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وقي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ا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6B5-6C4E-4503-99A3-DF0A8051FC4E}" type="slidenum">
              <a:t>11</a:t>
            </a:fld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764640"/>
            <a:ext cx="7772760" cy="12002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هدف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2320" y="2973240"/>
            <a:ext cx="5486400" cy="32641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نظمات المه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جهات المشرفة على البورص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نظام الاقتصادي الس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ضخ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دخل الحكو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2F5-C730-42A5-854E-F8492E005F41}" type="slidenum">
              <a:t>12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8960" y="1410480"/>
            <a:ext cx="7693200" cy="71784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7000"/>
            <a:ext cx="7775280" cy="35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كلفة التاريخ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خصص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تعدد 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عدم اشتمالها على بعض الأصول (الموارد البش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لغة التي تعد على أساسها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41600" y="1617480"/>
            <a:ext cx="7660800" cy="1031400"/>
          </a:xfrm>
          <a:prstGeom prst="rect">
            <a:avLst/>
          </a:prstGeom>
          <a:solidFill>
            <a:srgbClr val="eaeaea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دف المقر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25400" y="3486960"/>
            <a:ext cx="7607520" cy="1764360"/>
          </a:xfrm>
          <a:prstGeom prst="rect">
            <a:avLst/>
          </a:prstGeom>
          <a:solidFill>
            <a:srgbClr val="eaeaea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مكين الدارسين من التعرف على الأساليب العلمية المستخدمة في تحليل وتفسير القوائم المالية (التحليل المالي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6237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38440"/>
            <a:ext cx="7989840" cy="31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a7ff"/>
              </a:gs>
              <a:gs pos="50000">
                <a:srgbClr val="ffffff"/>
              </a:gs>
              <a:gs pos="100000">
                <a:srgbClr val="d3a7ff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جزء لا يتجزأ من التقارير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تبر القوائم المالية عصب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قارير المالية أعم من القوائم المالية فهي تشمل التقارير المالية ومعلومات أخرى مالية وغير مالية مثل المعلومات عن النشاط التسويقي والإنتاجي للمنشأة وتقرير مجلس الإدارة وتقرير المراجع الخارجي ...ال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ئولية المراجع فقط عن القوائم المالية والملاحظات المرفقة ب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الفرق بين التقارير المالية والقوائم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0705-9422-42C6-A6EA-352ABA086DB7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3640" y="2016000"/>
            <a:ext cx="3581640" cy="7653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0320" y="609120"/>
            <a:ext cx="7772400" cy="1143000"/>
          </a:xfrm>
          <a:prstGeom prst="rect">
            <a:avLst/>
          </a:prstGeom>
          <a:solidFill>
            <a:srgbClr val="ccccff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3105000"/>
            <a:ext cx="3529080" cy="828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مرا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6360" y="4221000"/>
            <a:ext cx="3581280" cy="866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مجلس الا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30064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ادارة التنفيذ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1592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692-9884-4ED2-9740-53C706E06119}" type="slidenum">
              <a:t>4</a:t>
            </a:fld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280" y="549000"/>
            <a:ext cx="7993440" cy="69012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ولاً: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0200" y="2671560"/>
            <a:ext cx="3819600" cy="6490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فاهيم التي تؤثر على شكل ومحتوى 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2673360"/>
            <a:ext cx="3168720" cy="6494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ناصر 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3836880"/>
            <a:ext cx="316692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صول (الموجود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لتزامات (المطلوب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يراد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صروف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في الدخ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3836880"/>
            <a:ext cx="180036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دو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حقق الإير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قاب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وحدة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اس النق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838680"/>
            <a:ext cx="1873080" cy="23986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كلفة التاريخ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فصا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همية النس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فظ (الحيطة والحذ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60164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ائمة المركز المالي – قائمة الدخل – قائمة التدفقات النقدية – قائمة الأرباح المحتج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3429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7D87-FE1F-422F-9E74-29AF55DECA0F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نياً: تقرير مراقب الحساب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نتيجة الفحص للقوائم المالية من حيث مدى دقة المعلومات التي تحتويها ومدى تمثيلها بصدق وعدالة للمركز المالي للمشروع ونتيجة نشاط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F0E-4C4B-478F-8AAC-541DBE9404ED}" type="slidenum">
              <a:t>6</a:t>
            </a:fld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لثاً: تقرير مجلس الإد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عامة عن المنشأة وأهدافها ومركزها المالي والتسويقي، ومعلومات عن الإنتاج ودرجة نمو المبيعات والأرباح والعوامل المؤثرة في نشاط المنشأة مستقبل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لا تخضع المعلومات الواردة فيه لمراجعة مراقب الحسابا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A9F5-0FAD-42A3-9125-B5AF78440125}" type="slidenum">
              <a:t>7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ابعاً: تقرير الإدارة التنفيذ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أكثر تفصيلاً من تقرير مجلس الإدارة، كالأصول والالتزامات وحقوق الملكية والتغيرات التي حدثت عليها خلال السنة المالية، ومعلومات عن العقود الجديدة وسياسة توزيع الأرباح والعاملين والخدمات المقدمة ل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لزامي في بعض الدول كبريطاني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F34-71CF-441E-AC6D-97DC2F2FDB5F}" type="slidenum">
              <a:t>8</a:t>
            </a:fld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704880"/>
            <a:ext cx="7772400" cy="1571760"/>
          </a:xfrm>
          <a:prstGeom prst="downArrowCallout">
            <a:avLst>
              <a:gd name="adj1" fmla="val -122318"/>
              <a:gd name="adj2" fmla="val 12362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فيدون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492280"/>
            <a:ext cx="5040360" cy="35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d1a1"/>
              </a:gs>
              <a:gs pos="50000">
                <a:srgbClr val="ffffff"/>
              </a:gs>
              <a:gs pos="100000">
                <a:srgbClr val="ebd1a1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إدارة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لاك المنشأة والمستثمرون المحتم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دائنو المنشأة و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جهات الحك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راكز الدراسات والبحو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2FC-F4FA-4F31-AB65-BCC615897BEF}" type="slidenum">
              <a:t>9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2:41:08Z</dcterms:modified>
  <cp:revision>21</cp:revision>
  <dc:subject/>
  <dc:title>التحليل المالي والائتماني</dc:title>
</cp:coreProperties>
</file>